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36B-5074-4FC7-8530-2B3E0B29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B1C-2419-4D6B-B479-B2A4E018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944-9615-4994-937E-0A29E809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9DE-1C5D-40F7-9EC6-AB980359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ED1-29D6-4131-9D16-8F49EF9F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9EA-4E4D-4563-8677-668A390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260-23F2-46FD-9C63-7B46708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B07-0CF9-4770-A9CE-4E8EAB23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CA1-81ED-4F43-9600-28B0D7F3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CF3-6BE3-4A96-BC59-4C27BDA8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19E-6DF7-4213-9AAA-43D454E7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60E-8FAC-4F93-BC2A-811AC68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F4F2-0EE4-465F-A30E-D49787B1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09480"/>
            <a:ext cx="678168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cha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44956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57400" y="533520"/>
            <a:ext cx="5019840" cy="170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oadway"/>
              </a:rPr>
              <a:t>Moi en França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oadway"/>
              <a:ea typeface="Broadway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676520"/>
            <a:ext cx="79246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 app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1.6383 m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u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est le dix-sept avr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tenn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riz, le poulet, le clèmentine, le salad, le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app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1.5875 m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trei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est le six sept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football américain et le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2514600" cy="1670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2286000" cy="1841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9051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oi en França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is located almost at the center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it easi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 is by Nig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an, and Lib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380880"/>
            <a:ext cx="4267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lag and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73392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60020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would rather deal with hardships then be accused of anything, such as self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ping the palm of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from facedow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up is a way of as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you going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“What are you do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380880"/>
            <a:ext cx="7391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d you know this about Chad...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3124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of Chad is N’Dja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of Chad is 9,944,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12 hours and 9 minutes ahead in Chad from Orem U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DP (money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year) is $2,0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2286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idprint"/>
              </a:rPr>
              <a:t>Chad, The Countr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idprint"/>
              <a:ea typeface="Kidprin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92680" y="3505320"/>
            <a:ext cx="209412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3200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’s main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French and Clas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is ½ Muslim,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, and ¼ ani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ians are usually friendly and 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ians like to look pleasant and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380880"/>
            <a:ext cx="6019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wiss911 XCm BT"/>
              </a:rPr>
              <a:t>...People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wiss911 XCm BT"/>
              <a:ea typeface="Swiss911 XCm B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657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76920"/>
            <a:ext cx="2819520" cy="174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knock by clapping outside someone’s gate or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tering another’s home, people shake hands with the men before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ians never use their left hand because it is considered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one enters the room and u don’t want to shake hands, they hold their right hand up and say La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Chadians favorite snack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ckets and toasted termites in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8600"/>
            <a:ext cx="70866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wiss911 XCm BT"/>
              </a:rPr>
              <a:t>Customs and Courtesi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wiss911 XCm BT"/>
              <a:ea typeface="Swiss911 XC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28800" y="380880"/>
            <a:ext cx="5029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ernhardMod BT"/>
              </a:rPr>
              <a:t>ጁ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ernhardMod BT"/>
              </a:rPr>
              <a:t>Lifestyle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ernhardMod BT"/>
              <a:ea typeface="BernhardMo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men marry in their te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en can be as old as 35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omen aren’t married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, they never marry or 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led or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holiday that is celebrat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ch is the main meal in the 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her than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99200" y="1676520"/>
            <a:ext cx="2530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d’s government if like ours in many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ident of Chad is elected to a 5 year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d has no railroads, making it difficult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have a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00200" y="228600"/>
            <a:ext cx="5562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~Society~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43434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French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t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emier de l’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ear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’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ou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289224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68920" y="3429000"/>
            <a:ext cx="234000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187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47:46Z</dcterms:created>
  <dc:creator>CVJH-LAB</dc:creator>
  <dc:description/>
  <dc:language>en-US</dc:language>
  <cp:lastModifiedBy>nield411</cp:lastModifiedBy>
  <dcterms:modified xsi:type="dcterms:W3CDTF">2008-01-17T22:33:26Z</dcterms:modified>
  <cp:revision>16</cp:revision>
  <dc:subject/>
  <dc:title> </dc:title>
</cp:coreProperties>
</file>